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CF7-E166-419D-B452-5948AF52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D19-7FA7-4B6A-973A-4D08ACD3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490-49AE-44A8-B607-B1CE5C5D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E6A-EAB0-4CFC-AE68-E3AEBC278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B75F2-1C5A-40B3-825D-B21FDE16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BBCC-8B6B-4F0A-94FC-5F7295F2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717A-3321-4E47-BB8F-CF32AF98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693D-7BA3-43C0-BCDA-16E9E786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798A-6281-48D4-9E9C-3F7E174A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EF14-550B-4EB1-B0C4-499A3DEE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BA95-A74F-4641-AC14-193CCAD6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EC03-F4C3-4B6D-B3D2-974282E1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351B-C721-4A78-98B3-FE8E27DA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8281-D513-4AD5-92C3-706E8215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0312-B9A5-4258-8241-D49CEB0E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4334-D47F-44DF-80A6-2D195F36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0E0C-1731-4DFA-A3F8-5C73D9E8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CACF-E7D9-4E73-9AA0-D1769C70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EFE-0628-4196-ADBC-470ADC97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AF5-EC9F-4C9B-8062-B13811EA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D3E7-3A45-45D5-B61B-7021EEDA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619C-31EF-4A28-B690-04091628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06F-6221-4A76-ACEC-DC0D9A55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320-7E1D-48FA-BA25-FC781728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6C03-9CB7-4BF3-BDEC-29DC07E2F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7E1A-F30F-4760-940F-775174557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ibrary Syste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panion’s Alexandr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aspr’s LibraryWor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304920" y="51814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Rationale for switching from Alexandria to Library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re secure and reliab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have to back-up our Alexandria library files on our own each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yWorld performs back-ups of the library catalog for us each night and keeps multiple back-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495680" y="4419720"/>
            <a:ext cx="2141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inless Transi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yWorld converts Marc records from Alexandria to LibraryWorld fo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R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simply export records from Alexandria and import them into Library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braryWorld inclu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30 day free trial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uarantee satisf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105520" y="4800600"/>
            <a:ext cx="304776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braryWorld=More For L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braryWorld enables librarians to spend more time with stud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s expensive with more features, including online 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th LibraryWorld, we will get a better library automation system for less money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orks Cit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ibraryWorld 2.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30 Apr. 2009 &lt;http://www.libraryworld.com/cgi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n/lw2.pl?command=home&gt;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ibrary Automation Software- Alexandria Library Management Software Syste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 30 Apr. 2009 &lt;http://www.goalexandria.com/&gt;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Best Valu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oday’s economy, we want to make sure we have the best library system available for the lowest pri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1240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lexandria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LibraryWor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$499 per ye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o online access included in pr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mited to one us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$365 per ye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Online access included in pr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mitless use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spend $499 on Alexandria and $50 on SmartMarc (Marc records) each yea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tal= $54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braryWorld includes access to Marc records and only costs $365 each ye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tal: $36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77120" y="5486400"/>
            <a:ext cx="1523880" cy="1200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19320" y="4876920"/>
            <a:ext cx="67053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switching to LibraryWorld,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save $184 each yea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Like Alexandria, LibraryWorld includes: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 circulation system with check-in, check-out, renew, hold, and reserve fea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taloging, inventory, patron management, serial tracking, inventory, reports, permissions and settings, and patron ac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work with or without a barcode r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orting and editing MARC catalog records from Library of Congress or other coll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nting of book spine labels, letters, notices, lists, and repo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xing and searchability of all words in catalog recor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support via e-mail and toll-free 800 num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Unlike Alexandria, LibraryWorld 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 available features are included in the price (other features from Alexandria cost extr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versions are available automatically (do not cost more) and announcements of the updates are made on library’s management home p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05720" y="4724280"/>
            <a:ext cx="16714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lexandria= limited catalog ac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Alexandria, the library catalog can only be accessed from the school library.  There is no online access included in the price we p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352680" y="36576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braryWorld= universal acc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ice for LibraryWorld include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line acces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o the library cata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s and students can access the library catalog from the library, classrooms, home,…anywhe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00600" y="4419720"/>
            <a:ext cx="2141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braryWorld=User Friendl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 Alexandria, LibraryWorld is user friendly and has Google-like search fea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as the price we pay for Alexandria only allows one user to manage the library catalog, LibraryWorld allows for unlimited us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for multiple libraries to be combined into a dynamic union catalog that enables multi-library searching and sharing  of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24480" y="5334120"/>
            <a:ext cx="1467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4:48:12Z</dcterms:created>
  <dc:creator>mpatterson</dc:creator>
  <dc:description/>
  <dc:language>en-US</dc:language>
  <cp:lastModifiedBy>NHS</cp:lastModifiedBy>
  <dcterms:modified xsi:type="dcterms:W3CDTF">2009-05-03T03:48:35Z</dcterms:modified>
  <cp:revision>9</cp:revision>
  <dc:subject/>
  <dc:title>Library Systems</dc:title>
</cp:coreProperties>
</file>